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E507-49D5-4A57-8FAC-6EAEE5BC3C42}"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3074-8D50-4A1A-AECC-CDDD3CCD5CB9}"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66FD-381A-4134-95A2-8A805005154C}"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36AF-6879-41BD-BBA9-CD3ADDDD8DEE}"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69CF-B7EF-4234-A0B4-5483E0154EAA}"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E9F7-DD80-4ADD-90B6-BCAE7098104B}"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2E49-1560-4471-99AD-D330438368AD}"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B6A8-9AD4-4E2E-A391-21A8BD58FFD9}"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E917-7CB3-4F56-8F4D-A3D428E086E2}"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4876-9BAF-415F-B690-D25300A2ACD5}"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616F-F3BF-49F0-8B8D-A1679833DA34}"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FCC7-D2F6-4BB4-879C-43ED68B097CE}"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4549-B1E3-48D7-BDB9-35D7DFA8CF08}"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BC41-54D9-4CCD-B0A4-B88F22098D4A}"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D015-020F-494D-B1D6-DF4A3456F82D}"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D94D-110E-4BC5-96D6-4FA9CACD410A}"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7F40-5C2F-46F9-93CC-CD7D6CA9402C}"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D793-9AD5-4A87-933B-40938B539549}"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CF8D-76A2-4774-B68A-362B05F4DB59}"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7EB4-55C6-487C-B24B-317C6391B798}"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2B0B-FACF-468B-BAEC-CE9BD05D2825}"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A112-58D2-433F-8EF8-231D901E9E52}"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96FE-5658-45CB-9931-75449A2D6F65}"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4769-FD0F-4887-99A9-17736A1233C1}"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AE18-EA0B-44A2-A709-D526D053E7D8}"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C3B4-1744-4018-8D9C-86CE996ACD4D}"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1097-DB99-436A-A818-89E3828B90CE}"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F7F2-5997-4952-BD3D-B987D85936D7}"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60102-ACAB-44D8-9246-12390A14D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D5A39-CC03-4E58-98F6-419A94A38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03332-8529-4823-82AA-2BBD10056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D2211-2DE3-4BEF-B91F-488F2BA57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C6AA9-2887-47C2-9DAA-D5A0DA1E5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8EF62-11B5-4ED4-A7D2-C56F8C313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C76AD-4D2E-4392-AF48-7603D14D1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D74CB-E711-476B-B63B-AB33E1428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FAB0A-6211-4462-B4A8-59A6D9285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B1968-D538-4634-90A9-E19893F8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A83D3-4069-4AEA-9DF3-48DA05317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F527E-3AED-42CB-A8D9-415711092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F51E-372B-48C3-879A-0D18EBCEE1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3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ea typeface="Times New Roman"/>
              </a:rPr>
              <a:t>Probability Distribution</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52280" y="1600200"/>
            <a:ext cx="8763120" cy="5105520"/>
          </a:xfrm>
          <a:prstGeom prst="rect">
            <a:avLst/>
          </a:prstGeom>
          <a:noFill/>
          <a:ln w="0">
            <a:noFill/>
          </a:ln>
        </p:spPr>
        <p:txBody>
          <a:bodyPr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ype of distribution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kewnes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urtosi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ition Rule, Multiplication Rul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mutation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dition probability (Bayes theorem) with exampl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ntral limit theorem</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rmal (Gaussian) Distribution and its Properties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 normal deviat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nomial Distribution with exampl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 error of the proport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isson Distribut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st based on ‘t’ disrtibut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ferences </a:t>
            </a:r>
            <a:endParaRPr b="0" lang="en-US" sz="2000" spc="-1" strike="noStrike">
              <a:solidFill>
                <a:srgbClr val="000000"/>
              </a:solidFill>
              <a:latin typeface="Calibri"/>
            </a:endParaRPr>
          </a:p>
        </p:txBody>
      </p:sp>
      <p:sp>
        <p:nvSpPr>
          <p:cNvPr id="50" name="Rounded Rectangle 3"/>
          <p:cNvSpPr/>
          <p:nvPr/>
        </p:nvSpPr>
        <p:spPr>
          <a:xfrm>
            <a:off x="4343400" y="762120"/>
            <a:ext cx="4572000" cy="1143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senter : Dr. Abhijit Borat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derator: Mr. Bharamb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Dr. Subodh Gup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Rounded Rectangle 4"/>
          <p:cNvSpPr/>
          <p:nvPr/>
        </p:nvSpPr>
        <p:spPr>
          <a:xfrm>
            <a:off x="152280" y="762120"/>
            <a:ext cx="3200400" cy="7617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amework </a:t>
            </a:r>
            <a:endParaRPr b="0" lang="en-US" sz="2400" spc="-1" strike="noStrike">
              <a:solidFill>
                <a:srgbClr val="000000"/>
              </a:solidFill>
              <a:latin typeface="Arial"/>
            </a:endParaRPr>
          </a:p>
        </p:txBody>
      </p:sp>
      <p:sp>
        <p:nvSpPr>
          <p:cNvPr id="52" name="Straight Connector 6"/>
          <p:cNvSpPr/>
          <p:nvPr/>
        </p:nvSpPr>
        <p:spPr>
          <a:xfrm flipH="1">
            <a:off x="4492800" y="2135160"/>
            <a:ext cx="2880" cy="1219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Rectangle 7"/>
          <p:cNvSpPr/>
          <p:nvPr/>
        </p:nvSpPr>
        <p:spPr>
          <a:xfrm>
            <a:off x="4495680" y="2362320"/>
            <a:ext cx="1905120" cy="5331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ex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rivation from conditional probabiliti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derive the theorem, we start from the definition of conditional probability. The probability of even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given event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B)=P(A∩B)/P(B)</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tly, the probability of event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given even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B/A)= P(A∩B)/P(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rranging and combining these two equations, we fin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B) P(B)=P(A∩B)=P(B/A) P(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lemma is sometimes called the product rule for probabilities. Dividing both sides by P(</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providing that it is non-zero, we obtain Bayes' theor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B)= P(A∩B)/P(B)= P(B/A) P(A)/P(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52280" y="228600"/>
            <a:ext cx="8839440" cy="6400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 </a:t>
            </a:r>
            <a:r>
              <a:rPr b="0" lang="en-US" sz="2400" spc="-1" strike="noStrike">
                <a:solidFill>
                  <a:srgbClr val="000000"/>
                </a:solidFill>
                <a:latin typeface="Times New Roman"/>
                <a:ea typeface="Times New Roman"/>
              </a:rPr>
              <a:t>Suppose there are two bowls full of cookies. Bowl #1 has 10 chocolate chip cookies and 30 plain cookies, while bowl #2 has 20 of each. Fred picks a bowl at random, and then picks a cookie at random. We may assume there is no reason to believe Fred treats one bowl differently from another, likewise for the cookies. The cookie turns out to be a plain one. How probable is it that Fred picked it out of bowl #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uitively, this should be greater than half since bowl #1 contains the same number of cookies as bowl #2, yet it has more plai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 clarify the situation by rephrasing the question to "what’s the probability that Fred picked bowl #1, given that he has a plain cookie?” The even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is that Fred picked bowl #1, and the event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is that Fred picked a plain cookie. To compute P(</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we first need to know:</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or the probability that Fred picked bowl #1 regardless of any other information. Since Fred is treating both bowls equally, it is 0.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or the probability of getting a plain cookie regardless of any other information. Since there are 80 total cookies, and 50 of them are plain, the probability of selecting a plain cookie is 50/80 = 0.62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
            </a:r>
            <a:r>
              <a:rPr b="0" i="1" lang="en-US" sz="2400" spc="-1" strike="noStrike">
                <a:solidFill>
                  <a:srgbClr val="000000"/>
                </a:solidFill>
                <a:latin typeface="Times New Roman"/>
                <a:ea typeface="Times New Roman"/>
              </a:rPr>
              <a:t>B|A</a:t>
            </a:r>
            <a:r>
              <a:rPr b="0" lang="en-US" sz="2400" spc="-1" strike="noStrike">
                <a:solidFill>
                  <a:srgbClr val="000000"/>
                </a:solidFill>
                <a:latin typeface="Times New Roman"/>
                <a:ea typeface="Times New Roman"/>
              </a:rPr>
              <a:t>), or the probability of getting a plain cookie given Fred picked bowl #1. Since there are 40 cookies in bowl #1 and 30 of them are plain, the probability is 30/40 = 0.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n all this information, we can compute the probability of Fred having selected bowl #1 given that he got a plain cookie by substitu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B)= P(B/A) P(A)/P(B)=0.75*0.5/0.625=0.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 we expected, it is more than half.</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04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limit theorem</a:t>
            </a:r>
            <a:endParaRPr b="0" lang="en-US" sz="3600" spc="-1" strike="noStrike">
              <a:solidFill>
                <a:srgbClr val="000000"/>
              </a:solidFill>
              <a:latin typeface="Calibri"/>
            </a:endParaRPr>
          </a:p>
        </p:txBody>
      </p:sp>
      <p:sp>
        <p:nvSpPr>
          <p:cNvPr id="76" name=""/>
          <p:cNvSpPr txBox="1"/>
          <p:nvPr/>
        </p:nvSpPr>
        <p:spPr>
          <a:xfrm>
            <a:off x="152280" y="762120"/>
            <a:ext cx="8839440" cy="594360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X is the mean of a random sample X1, X2, … Xn from a distribution with</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an μ and finite variance σ2 &gt; 0, then the distribution of</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X-</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σ√ </a:t>
            </a:r>
            <a:r>
              <a:rPr b="0" lang="en-US" sz="2400" spc="-1" strike="noStrike">
                <a:solidFill>
                  <a:srgbClr val="000000"/>
                </a:solidFill>
                <a:latin typeface="Times New Roman"/>
                <a:ea typeface="Times New Roman"/>
              </a:rPr>
              <a:t>n=</a:t>
            </a:r>
            <a:r>
              <a:rPr b="0" lang="el-GR" sz="2400" spc="-1" strike="noStrike">
                <a:solidFill>
                  <a:srgbClr val="000000"/>
                </a:solidFill>
                <a:latin typeface="Times New Roman"/>
                <a:ea typeface="Times New Roman"/>
              </a:rPr>
              <a:t>Σ</a:t>
            </a:r>
            <a:r>
              <a:rPr b="0" lang="en-US" sz="2400" spc="-1" strike="noStrike" baseline="30000">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x=i </a:t>
            </a:r>
            <a:r>
              <a:rPr b="0" lang="en-US" sz="2400" spc="-1" strike="noStrike">
                <a:solidFill>
                  <a:srgbClr val="000000"/>
                </a:solidFill>
                <a:latin typeface="Times New Roman"/>
                <a:ea typeface="Times New Roman"/>
              </a:rPr>
              <a:t>Xi-nu/</a:t>
            </a:r>
            <a:r>
              <a:rPr b="0" lang="el-GR" sz="2400" spc="-1" strike="noStrike">
                <a:solidFill>
                  <a:srgbClr val="000000"/>
                </a:solidFill>
                <a:latin typeface="Times New Roman"/>
                <a:ea typeface="Times New Roman"/>
              </a:rPr>
              <a:t> σ√ </a:t>
            </a:r>
            <a:r>
              <a:rPr b="0" lang="en-US" sz="2400" spc="-1" strike="noStrike">
                <a:solidFill>
                  <a:srgbClr val="000000"/>
                </a:solidFill>
                <a:latin typeface="Times New Roman"/>
                <a:ea typeface="Times New Roman"/>
              </a:rPr>
              <a:t>n</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proaches a distribution that is N(0,1) as n becomes large.5</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other words, when sampling from such a distribution (normal or otherwise), as the sample size increases, the distribution of X gets closer to a normal distribution. When sampling from a normal distribution, the distribution of X will, necessarily, be normal.</a:t>
            </a:r>
            <a:endParaRPr b="0" lang="en-US" sz="2400" spc="-1" strike="noStrike">
              <a:solidFill>
                <a:srgbClr val="000000"/>
              </a:solidFill>
              <a:latin typeface="Calibri"/>
            </a:endParaRPr>
          </a:p>
          <a:p>
            <a:pPr marL="339480" indent="-3394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ut , none of this implies that when larger samples are taken from a nonnormal distribution the underlying distribution itself becomes normally distributed. Rather, one would witness a clearer picture of the actual </a:t>
            </a:r>
            <a:r>
              <a:rPr b="0" lang="en-US" sz="2400" spc="-1" strike="noStrike">
                <a:solidFill>
                  <a:srgbClr val="000000"/>
                </a:solidFill>
                <a:latin typeface="Times New Roman"/>
                <a:ea typeface="Times New Roman"/>
              </a:rPr>
              <a:t>(nonnormal) distribution itself. The CLT discussed above is involved with assessing the distribution of X , not X—the individual values themselves</a:t>
            </a: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Normal (Gaussian) Distribution  </a:t>
            </a:r>
            <a:endParaRPr b="0" lang="en-US" sz="3600" spc="-1" strike="noStrike">
              <a:solidFill>
                <a:srgbClr val="000000"/>
              </a:solidFill>
              <a:latin typeface="Calibri"/>
            </a:endParaRPr>
          </a:p>
        </p:txBody>
      </p:sp>
      <p:pic>
        <p:nvPicPr>
          <p:cNvPr id="78" name="Picture 4" descr=""/>
          <p:cNvPicPr/>
          <p:nvPr/>
        </p:nvPicPr>
        <p:blipFill>
          <a:blip r:embed="rId1"/>
          <a:stretch/>
        </p:blipFill>
        <p:spPr>
          <a:xfrm>
            <a:off x="1290600" y="1219320"/>
            <a:ext cx="6562800" cy="3781440"/>
          </a:xfrm>
          <a:prstGeom prst="rect">
            <a:avLst/>
          </a:prstGeom>
          <a:ln w="0">
            <a:noFill/>
          </a:ln>
        </p:spPr>
      </p:pic>
      <p:sp>
        <p:nvSpPr>
          <p:cNvPr id="79" name="Straight Connector 5"/>
          <p:cNvSpPr/>
          <p:nvPr/>
        </p:nvSpPr>
        <p:spPr>
          <a:xfrm>
            <a:off x="3809880" y="5410080"/>
            <a:ext cx="175284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Straight Connector 7"/>
          <p:cNvSpPr/>
          <p:nvPr/>
        </p:nvSpPr>
        <p:spPr>
          <a:xfrm>
            <a:off x="2971800" y="5715000"/>
            <a:ext cx="34290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Straight Connector 11"/>
          <p:cNvSpPr/>
          <p:nvPr/>
        </p:nvSpPr>
        <p:spPr>
          <a:xfrm>
            <a:off x="1981080" y="6323040"/>
            <a:ext cx="5410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Rounded Rectangle 12"/>
          <p:cNvSpPr/>
          <p:nvPr/>
        </p:nvSpPr>
        <p:spPr>
          <a:xfrm>
            <a:off x="4114800" y="5029200"/>
            <a:ext cx="990720" cy="38088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27 %</a:t>
            </a:r>
            <a:endParaRPr b="0" lang="en-US" sz="1800" spc="-1" strike="noStrike">
              <a:solidFill>
                <a:srgbClr val="000000"/>
              </a:solidFill>
              <a:latin typeface="Arial"/>
            </a:endParaRPr>
          </a:p>
        </p:txBody>
      </p:sp>
      <p:sp>
        <p:nvSpPr>
          <p:cNvPr id="83" name="Rounded Rectangle 13"/>
          <p:cNvSpPr/>
          <p:nvPr/>
        </p:nvSpPr>
        <p:spPr>
          <a:xfrm>
            <a:off x="4114800" y="5715000"/>
            <a:ext cx="990720" cy="38088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45 %</a:t>
            </a:r>
            <a:endParaRPr b="0" lang="en-US" sz="1800" spc="-1" strike="noStrike">
              <a:solidFill>
                <a:srgbClr val="000000"/>
              </a:solidFill>
              <a:latin typeface="Arial"/>
            </a:endParaRPr>
          </a:p>
        </p:txBody>
      </p:sp>
      <p:sp>
        <p:nvSpPr>
          <p:cNvPr id="84" name="Rounded Rectangle 14"/>
          <p:cNvSpPr/>
          <p:nvPr/>
        </p:nvSpPr>
        <p:spPr>
          <a:xfrm>
            <a:off x="4191120" y="6324480"/>
            <a:ext cx="990360" cy="38124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9.7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2240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perties of Normal Distribution</a:t>
            </a:r>
            <a:endParaRPr b="0" lang="en-US" sz="3600" spc="-1" strike="noStrike">
              <a:solidFill>
                <a:srgbClr val="000000"/>
              </a:solidFill>
              <a:latin typeface="Calibri"/>
            </a:endParaRPr>
          </a:p>
        </p:txBody>
      </p:sp>
      <p:sp>
        <p:nvSpPr>
          <p:cNvPr id="86" name=""/>
          <p:cNvSpPr txBox="1"/>
          <p:nvPr/>
        </p:nvSpPr>
        <p:spPr>
          <a:xfrm>
            <a:off x="152280" y="838080"/>
            <a:ext cx="8763120" cy="56390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tribution is continuous symmetrical curve where both tails extending to infin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measures of central tendency (mean, median and mode) are equa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an determine the centre of the cur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ewness is equal to zer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curve is transferred to a graph, the frequency curve will be bell shaped.</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ny observation, the more the biological observation, the more it tends to follow the normal distribution and has a symmetrical dimens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perties of Normal Distribution cont…</a:t>
            </a:r>
            <a:endParaRPr b="0" lang="en-US" sz="36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pread or variation around mean is represented  by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rger the SD greater is the spread of valu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twee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1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area is 68%, betwee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2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area is 95%, and betwee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3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area is 99%, of the total area of the cur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Times New Roman"/>
                <a:ea typeface="Times New Roman"/>
              </a:rPr>
              <a:t>Confidence Interval</a:t>
            </a:r>
            <a:br>
              <a:rPr sz="3600"/>
            </a:br>
            <a:endParaRPr b="0" lang="en-US" sz="3600" spc="-1" strike="noStrike">
              <a:solidFill>
                <a:srgbClr val="000000"/>
              </a:solidFill>
              <a:latin typeface="Calibri"/>
            </a:endParaRPr>
          </a:p>
        </p:txBody>
      </p:sp>
      <p:sp>
        <p:nvSpPr>
          <p:cNvPr id="90" name=""/>
          <p:cNvSpPr txBox="1"/>
          <p:nvPr/>
        </p:nvSpPr>
        <p:spPr>
          <a:xfrm>
            <a:off x="152280" y="609480"/>
            <a:ext cx="8839440" cy="60962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we can not draw large number of samples covering entire population in order to find population mean</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so we set up certain limits on the both sides of the population mean on the basis of the facts that means X of samples of size 30 or more are normally distributed around population mea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limits are called as confidence limit and the range bet the two is called as confidence interva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per the normal distribution of samples, we say with confidence that 95% of the sample means will lie within the confidence limits of </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1.96SE(X) and 1+1.96SE(X)</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bability of occurrence of sample value out side this will be only 5% i.e. 0.05 , means 5/100=1/20 i.e. one in 20 tim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I can be used to describe how reliable survey results ar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tandard normal deviate</a:t>
            </a:r>
            <a:endParaRPr b="0" lang="en-US" sz="3600" spc="-1" strike="noStrike">
              <a:solidFill>
                <a:srgbClr val="000000"/>
              </a:solidFill>
              <a:latin typeface="Calibri"/>
            </a:endParaRPr>
          </a:p>
        </p:txBody>
      </p:sp>
      <p:sp>
        <p:nvSpPr>
          <p:cNvPr id="92"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ny normal curve, it is possible to relate the distance between any observed value (x) and the mean of the curve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as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distance which is called as standard normal deviate or relative normal devi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a:t>
            </a:r>
            <a:r>
              <a:rPr b="0" lang="az-Cyrl-AZ" sz="2400" spc="-1" strike="noStrike">
                <a:solidFill>
                  <a:srgbClr val="000000"/>
                </a:solidFill>
                <a:latin typeface="Times New Roman"/>
                <a:ea typeface="Times New Roman"/>
              </a:rPr>
              <a:t> б</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g. </a:t>
            </a:r>
            <a:r>
              <a:rPr b="0" lang="en-US" sz="2400" spc="-1" strike="noStrike">
                <a:solidFill>
                  <a:srgbClr val="000000"/>
                </a:solidFill>
                <a:latin typeface="Times New Roman"/>
                <a:ea typeface="Times New Roman"/>
              </a:rPr>
              <a:t>population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m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an ht=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bserved ht=18”</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D of the normal curve=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Z=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a:t>
            </a:r>
            <a:r>
              <a:rPr b="0" lang="az-Cyrl-AZ" sz="2400" spc="-1" strike="noStrike">
                <a:solidFill>
                  <a:srgbClr val="000000"/>
                </a:solidFill>
                <a:latin typeface="Times New Roman"/>
                <a:ea typeface="Times New Roman"/>
              </a:rPr>
              <a:t> б</a:t>
            </a:r>
            <a:r>
              <a:rPr b="0" lang="en-US" sz="2400" spc="-1" strike="noStrike">
                <a:solidFill>
                  <a:srgbClr val="000000"/>
                </a:solidFill>
                <a:latin typeface="Times New Roman"/>
                <a:ea typeface="Times New Roman"/>
              </a:rPr>
              <a:t>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18-9/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9/5=1.8</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means that x can be located at 2 SD distance from the centre of the cur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inomial Distribution</a:t>
            </a:r>
            <a:endParaRPr b="0" lang="en-US" sz="3600" spc="-1" strike="noStrike">
              <a:solidFill>
                <a:srgbClr val="000000"/>
              </a:solidFill>
              <a:latin typeface="Calibri"/>
            </a:endParaRPr>
          </a:p>
        </p:txBody>
      </p:sp>
      <p:sp>
        <p:nvSpPr>
          <p:cNvPr id="94" name=""/>
          <p:cNvSpPr txBox="1"/>
          <p:nvPr/>
        </p:nvSpPr>
        <p:spPr>
          <a:xfrm>
            <a:off x="152280" y="685800"/>
            <a:ext cx="8763120" cy="5867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ed by Prof. James Bernoulli</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inomial distribution describes the distribution of discrete events or qualitative data. A random variables follow a binomial distribution when each trial has exactly two outcome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p is the probability of occurrence in one trial, q is the probability of non occurrence in same trial (q=1-p ) and n is the number of trials, the probability distribution of outcomes is described by the terms of the expansion of the binomial distribution; (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the probability of an event to occur is 1, thus p+q=1, q=1-p , So the expression will be</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p</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nc</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n-1</a:t>
            </a:r>
            <a:r>
              <a:rPr b="0" lang="en-US" sz="2400" spc="-1" strike="noStrike">
                <a:solidFill>
                  <a:srgbClr val="000000"/>
                </a:solidFill>
                <a:latin typeface="Times New Roman"/>
                <a:ea typeface="Times New Roman"/>
              </a:rPr>
              <a:t>q+nc</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n-2</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c</a:t>
            </a:r>
            <a:r>
              <a:rPr b="0" lang="en-US" sz="2400" spc="-1" strike="noStrike" baseline="-25000">
                <a:solidFill>
                  <a:srgbClr val="000000"/>
                </a:solidFill>
                <a:latin typeface="Times New Roman"/>
                <a:ea typeface="Times New Roman"/>
              </a:rPr>
              <a:t>r</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n-r</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r</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re   nc</a:t>
            </a:r>
            <a:r>
              <a:rPr b="0" lang="en-US" sz="2400" spc="-1" strike="noStrike" baseline="-25000">
                <a:solidFill>
                  <a:srgbClr val="000000"/>
                </a:solidFill>
                <a:latin typeface="Times New Roman"/>
                <a:ea typeface="Times New Roman"/>
              </a:rPr>
              <a:t>r</a:t>
            </a:r>
            <a:r>
              <a:rPr b="0" lang="en-US" sz="2400" spc="-1" strike="noStrike">
                <a:solidFill>
                  <a:srgbClr val="000000"/>
                </a:solidFill>
                <a:latin typeface="Times New Roman"/>
                <a:ea typeface="Times New Roman"/>
              </a:rPr>
              <a:t>=n!/r!(n-r)!</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p is very much larger or very much smaller than q, the curve of distribution is quite asymmetrical when “n” is small.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ases like these, </a:t>
            </a:r>
            <a:r>
              <a:rPr b="1" lang="en-US" sz="2400" spc="-1" strike="noStrike">
                <a:solidFill>
                  <a:srgbClr val="000000"/>
                </a:solidFill>
                <a:latin typeface="Times New Roman"/>
                <a:ea typeface="Times New Roman"/>
              </a:rPr>
              <a:t>Poisson distribution </a:t>
            </a:r>
            <a:r>
              <a:rPr b="0" lang="en-US" sz="2400" spc="-1" strike="noStrike">
                <a:solidFill>
                  <a:srgbClr val="000000"/>
                </a:solidFill>
                <a:latin typeface="Times New Roman"/>
                <a:ea typeface="Times New Roman"/>
              </a:rPr>
              <a:t>is utiliz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Distribution</a:t>
            </a:r>
            <a:endParaRPr b="0" lang="en-US" sz="3600" spc="-1" strike="noStrike">
              <a:solidFill>
                <a:srgbClr val="000000"/>
              </a:solidFill>
              <a:latin typeface="Calibri"/>
            </a:endParaRPr>
          </a:p>
        </p:txBody>
      </p:sp>
      <p:sp>
        <p:nvSpPr>
          <p:cNvPr id="55" name=""/>
          <p:cNvSpPr txBox="1"/>
          <p:nvPr/>
        </p:nvSpPr>
        <p:spPr>
          <a:xfrm>
            <a:off x="457200" y="762120"/>
            <a:ext cx="8229600" cy="536400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tinuous Distribution</a:t>
            </a:r>
            <a:endParaRPr b="0" lang="en-US" sz="32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rmal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ometric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ponential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iform distribution</a:t>
            </a:r>
            <a:endParaRPr b="0" lang="en-US" sz="28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rete distribution</a:t>
            </a:r>
            <a:endParaRPr b="0" lang="en-US" sz="32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inomial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isson Distribution</a:t>
            </a:r>
            <a:endParaRPr b="0" lang="en-US" sz="2800" spc="-1" strike="noStrike">
              <a:solidFill>
                <a:srgbClr val="000000"/>
              </a:solidFill>
              <a:latin typeface="Calibri"/>
            </a:endParaRPr>
          </a:p>
          <a:p>
            <a:pPr marL="514440" indent="-514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 what are the chances of getting any combination, i.e. 2 boys, 1 girl or 1 boy and 2 girls or three boys or three girls when number of pregnancy is 3? Probability of getting boy or girl if found to be 0.5</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ression, (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p+q)</a:t>
            </a:r>
            <a:r>
              <a:rPr b="0" lang="en-US" sz="2400" spc="-1" strike="noStrike" baseline="30000">
                <a:solidFill>
                  <a:srgbClr val="000000"/>
                </a:solidFill>
                <a:latin typeface="Times New Roman"/>
                <a:ea typeface="Times New Roman"/>
              </a:rPr>
              <a:t>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p+q)</a:t>
            </a:r>
            <a:r>
              <a:rPr b="0" lang="en-US" sz="2400" spc="-1" strike="noStrike" baseline="30000">
                <a:solidFill>
                  <a:srgbClr val="000000"/>
                </a:solidFill>
                <a:latin typeface="Times New Roman"/>
                <a:ea typeface="Times New Roman"/>
              </a:rPr>
              <a:t>3 </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3p</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q+3pq</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0.5, q=1-o.5=0.5, n=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children to be male:p</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5)</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125 or 12.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children to be female:q</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5)</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125 or 12.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children male, third female:3p</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q=3(0.5)</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5)=0.375 or 3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children female, one male:3pq</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3(0.5)</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5)=0.375 or 3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tandard error of the proportion</a:t>
            </a:r>
            <a:endParaRPr b="0" lang="en-US" sz="3600" spc="-1" strike="noStrike">
              <a:solidFill>
                <a:srgbClr val="000000"/>
              </a:solidFill>
              <a:latin typeface="Calibri"/>
            </a:endParaRPr>
          </a:p>
        </p:txBody>
      </p:sp>
      <p:sp>
        <p:nvSpPr>
          <p:cNvPr id="97"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a:t>
            </a:r>
            <a:r>
              <a:rPr b="0" lang="az-Cyrl-AZ" sz="2400" spc="-1" strike="noStrike">
                <a:solidFill>
                  <a:srgbClr val="000000"/>
                </a:solidFill>
                <a:latin typeface="Times New Roman"/>
                <a:ea typeface="Times New Roman"/>
              </a:rPr>
              <a:t> б</a:t>
            </a:r>
            <a:r>
              <a:rPr b="0" lang="en-US" sz="2400" spc="-1" strike="noStrike">
                <a:solidFill>
                  <a:srgbClr val="000000"/>
                </a:solidFill>
                <a:latin typeface="Times New Roman"/>
                <a:ea typeface="Times New Roman"/>
              </a:rPr>
              <a:t>  in normal distribu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binomial distribution, use √pq /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 nature proportion of male is 51%. Supposed in sample (n=100) it is 39%. What inference do we draw?</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 √pq /n = √51*49/100=4.99</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lue range we get i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 1(4.99)=5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1(4.99)=46, so it can vary from 46 to 56 perc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bove sample is it 39, which is outside the limit. So it is not likely by cha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51-39/4.99=2.4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relative deviate exceed 2.0, the deviation is significa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oisson Distribution</a:t>
            </a:r>
            <a:endParaRPr b="0" lang="en-US" sz="3600" spc="-1" strike="noStrike">
              <a:solidFill>
                <a:srgbClr val="000000"/>
              </a:solidFill>
              <a:latin typeface="Calibri"/>
            </a:endParaRPr>
          </a:p>
        </p:txBody>
      </p:sp>
      <p:sp>
        <p:nvSpPr>
          <p:cNvPr id="99" name=""/>
          <p:cNvSpPr txBox="1"/>
          <p:nvPr/>
        </p:nvSpPr>
        <p:spPr>
          <a:xfrm>
            <a:off x="152280" y="685800"/>
            <a:ext cx="883944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a discrete distribu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occurrence is towards impossible (where p is too sma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d in social and physical scienc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was derived by S.D. Poisson(1781-1840) in 1837.</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is is a limiting distribution of binomial distribution when the number of trials “n” is very large and the probability “p” is too small; the np is fixed number which is called as Poisson distribu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ula, P=(X=x) e-</a:t>
            </a:r>
            <a:r>
              <a:rPr b="0" lang="el-GR" sz="2400" spc="-1" strike="noStrike" baseline="30000">
                <a:solidFill>
                  <a:srgbClr val="000000"/>
                </a:solidFill>
                <a:latin typeface="Times New Roman"/>
                <a:ea typeface="Times New Roman"/>
              </a:rPr>
              <a:t>λ </a:t>
            </a:r>
            <a:r>
              <a:rPr b="0" lang="el-GR" sz="2400" spc="-1" strike="noStrike">
                <a:solidFill>
                  <a:srgbClr val="000000"/>
                </a:solidFill>
                <a:latin typeface="Times New Roman"/>
                <a:ea typeface="Times New Roman"/>
              </a:rPr>
              <a:t>λ </a:t>
            </a:r>
            <a:r>
              <a:rPr b="0" lang="en-US" sz="2400" spc="-1" strike="noStrike" baseline="30000">
                <a:solidFill>
                  <a:srgbClr val="000000"/>
                </a:solidFill>
                <a:latin typeface="Times New Roman"/>
                <a:ea typeface="Times New Roman"/>
              </a:rPr>
              <a:t>x</a:t>
            </a:r>
            <a:r>
              <a:rPr b="0" lang="en-US" sz="2400" spc="-1" strike="noStrike">
                <a:solidFill>
                  <a:srgbClr val="000000"/>
                </a:solidFill>
                <a:latin typeface="Times New Roman"/>
                <a:ea typeface="Times New Roman"/>
              </a:rPr>
              <a:t>/x!</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x=a count 0,1,2,3,4,5,etc</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base of natural log=2.718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ea typeface="Times New Roman"/>
              </a:rPr>
              <a:t>=mean=varia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a:t>
            </a:r>
            <a:r>
              <a:rPr b="0" lang="az-Cyrl-AZ" sz="2400" spc="-1" strike="noStrike">
                <a:solidFill>
                  <a:srgbClr val="000000"/>
                </a:solidFill>
                <a:latin typeface="Times New Roman"/>
                <a:ea typeface="Times New Roman"/>
              </a:rPr>
              <a:t>б</a:t>
            </a:r>
            <a:r>
              <a:rPr b="0" lang="en-US" sz="2400" spc="-1" strike="noStrike" baseline="30000">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mplified version P</a:t>
            </a:r>
            <a:r>
              <a:rPr b="0" lang="en-US" sz="2400" spc="-1" strike="noStrike" baseline="-25000">
                <a:solidFill>
                  <a:srgbClr val="000000"/>
                </a:solidFill>
                <a:latin typeface="Times New Roman"/>
                <a:ea typeface="Times New Roman"/>
              </a:rPr>
              <a:t>x</a:t>
            </a:r>
            <a:r>
              <a:rPr b="0" lang="en-US" sz="2400" spc="-1" strike="noStrike">
                <a:solidFill>
                  <a:srgbClr val="000000"/>
                </a:solidFill>
                <a:latin typeface="Times New Roman"/>
                <a:ea typeface="Times New Roman"/>
              </a:rPr>
              <a:t>=e</a:t>
            </a:r>
            <a:r>
              <a:rPr b="0" lang="en-US" sz="2400" spc="-1" strike="noStrike" baseline="30000">
                <a:solidFill>
                  <a:srgbClr val="000000"/>
                </a:solidFill>
                <a:latin typeface="Times New Roman"/>
                <a:ea typeface="Times New Roman"/>
              </a:rPr>
              <a:t>m</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x</a:t>
            </a:r>
            <a:r>
              <a:rPr b="0" lang="en-US" sz="2400" spc="-1" strike="noStrike">
                <a:solidFill>
                  <a:srgbClr val="000000"/>
                </a:solidFill>
                <a:latin typeface="Times New Roman"/>
                <a:ea typeface="Times New Roman"/>
              </a:rPr>
              <a:t>/x!</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e=consta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
            </a:r>
            <a:r>
              <a:rPr b="0" lang="el-GR" sz="2400" spc="-1" strike="noStrike">
                <a:solidFill>
                  <a:srgbClr val="000000"/>
                </a:solidFill>
                <a:latin typeface="Times New Roman"/>
                <a:ea typeface="Times New Roman"/>
              </a:rPr>
              <a:t> 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x=distribu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x!=factoria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nder the following condition, we observe that distribution becoming Poiss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ue of p or q becomes indefinitely sma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of observation becomes (n) very larg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duct of (n) and (p) which is np=mean number of event is always fini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st based on ‘t’ Distribution</a:t>
            </a:r>
            <a:endParaRPr b="0" lang="en-US" sz="3600" spc="-1" strike="noStrike">
              <a:solidFill>
                <a:srgbClr val="000000"/>
              </a:solidFill>
              <a:latin typeface="Calibri"/>
            </a:endParaRPr>
          </a:p>
        </p:txBody>
      </p:sp>
      <p:sp>
        <p:nvSpPr>
          <p:cNvPr id="102"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discovered by WA Gosset who published this under the pen name “Stud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ase of observations that are naturally paired the “t” test is applied to the mean of the differences between these pairs. This is to visualized whether such a mean is significantly less, greater or zer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eneral procedure follow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ion of pooled S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pooled SD to calculate S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io of observed difference to S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 table helps us in drawing infere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t” distribution the DF used is equal to n-1 or less than the size of sample. When “t” test involves the difference between two means the DF is 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52280" y="152280"/>
            <a:ext cx="8839440" cy="6477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ula   t =x-</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x=mean of the sampl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mean of the population</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 SD of the sample mean</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number of observatio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mon applicatio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test the difference bet sample mean and population me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x-</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where S=√∑(x-x)</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1    DF=n-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1" lang="en-US" sz="2400" spc="-1" strike="noStrike">
                <a:solidFill>
                  <a:srgbClr val="000000"/>
                </a:solidFill>
                <a:latin typeface="Times New Roman"/>
                <a:ea typeface="Times New Roman"/>
              </a:rPr>
              <a:t>To test for the difference bet two sample mea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x</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x</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and x</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are means of two sampl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ooled SD which is found out b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variance of sample I= √∑(x</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1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variance of sample II= √∑(x</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1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Rounded Rectangle 3"/>
          <p:cNvSpPr/>
          <p:nvPr/>
        </p:nvSpPr>
        <p:spPr>
          <a:xfrm>
            <a:off x="5715000" y="4419720"/>
            <a:ext cx="3048120" cy="20574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n</a:t>
            </a:r>
            <a:r>
              <a:rPr b="0" lang="en-US" sz="2400" spc="-1" strike="noStrike" baseline="-25000">
                <a:solidFill>
                  <a:srgbClr val="000000"/>
                </a:solidFill>
                <a:latin typeface="Times New Roman"/>
                <a:ea typeface="Times New Roman"/>
              </a:rPr>
              <a:t>1 </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 </a:t>
            </a:r>
            <a:r>
              <a:rPr b="0" lang="en-US" sz="2400" spc="-1" strike="noStrike">
                <a:solidFill>
                  <a:srgbClr val="000000"/>
                </a:solidFill>
                <a:latin typeface="Times New Roman"/>
                <a:ea typeface="Times New Roman"/>
              </a:rPr>
              <a:t> are sample siz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F will be 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52280" y="75960"/>
            <a:ext cx="8839440" cy="6629400"/>
          </a:xfrm>
          <a:prstGeom prst="rect">
            <a:avLst/>
          </a:prstGeom>
          <a:noFill/>
          <a:ln w="0">
            <a:noFill/>
          </a:ln>
        </p:spPr>
        <p:txBody>
          <a:bodyPr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1" lang="en-US" sz="2400" spc="-1" strike="noStrike">
                <a:solidFill>
                  <a:srgbClr val="000000"/>
                </a:solidFill>
                <a:latin typeface="Times New Roman"/>
                <a:ea typeface="Times New Roman"/>
              </a:rPr>
              <a:t>To test for paired observations</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ke the difference bet data of pair directly. If there is no difference, it is zero, if it is more then it is positive and if it is less then it is negative.</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d/ S/</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where d=avg of the differences bet paired observation</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 √∑(d</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d)</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1 </a:t>
            </a:r>
            <a:endParaRPr b="0" lang="en-US" sz="24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 under each category pair is noted reference made above</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an of these diff is found out d</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 is set d=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e SD is found where n is number of pair of observation</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lying t test formula</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tistical inference, with Df=n-1</a:t>
            </a:r>
            <a:endParaRPr b="0" lang="en-US" sz="20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a:t>
            </a:r>
            <a:r>
              <a:rPr b="1" lang="en-US" sz="2400" spc="-1" strike="noStrike">
                <a:solidFill>
                  <a:srgbClr val="000000"/>
                </a:solidFill>
                <a:latin typeface="Times New Roman"/>
                <a:ea typeface="Times New Roman"/>
              </a:rPr>
              <a:t>To test for the correlation coefficient</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r √n-2/√1-r</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where , r=correlation coefficien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F=n-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eferences </a:t>
            </a:r>
            <a:endParaRPr b="0" lang="en-US" sz="3600" spc="-1" strike="noStrike">
              <a:solidFill>
                <a:srgbClr val="000000"/>
              </a:solidFill>
              <a:latin typeface="Calibri"/>
            </a:endParaRPr>
          </a:p>
        </p:txBody>
      </p:sp>
      <p:sp>
        <p:nvSpPr>
          <p:cNvPr id="107" name=""/>
          <p:cNvSpPr txBox="1"/>
          <p:nvPr/>
        </p:nvSpPr>
        <p:spPr>
          <a:xfrm>
            <a:off x="457200" y="837720"/>
            <a:ext cx="8229600" cy="586764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ll AB, Hill ID. Bradford Hill’s principles of medical statistics.First Indian edition.New Delhi:B.I.Publication Pvt Ltd; 1993.p.129.</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wanga SK, Tye CY, Ayeni O. Teaching Health Statistics.WHO.First edition. Jeneva: WHO library; 1999.p58-65.</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mitage P, Berry G. Statistical Methods in Medical Research. Third edition. Cambridge: Oxford; 1994.p.48-52</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hajan BK. Methods in Biostatistics.6</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ition. Reprint . New Delhi: Jaypee Brothers;2005. p.117-120.</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o KV. Biostatistics, A manual of statistical methods for use in health, nutrition and anthropology. Second edition. New Delhi:Jaypee Brothers;2007.p-63-89.</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abhakara GN. Biostatistics. First edition. New Delhi:Jaypee Brothers;2006. p.89-94, 129-135.</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Times New Roman"/>
                <a:ea typeface="Times New Roman"/>
              </a:rPr>
              <a:t>Skewness</a:t>
            </a:r>
            <a:br>
              <a:rPr sz="3600"/>
            </a:br>
            <a:endParaRPr b="0" lang="en-US" sz="3600" spc="-1" strike="noStrike">
              <a:solidFill>
                <a:srgbClr val="000000"/>
              </a:solidFill>
              <a:latin typeface="Calibri"/>
            </a:endParaRPr>
          </a:p>
        </p:txBody>
      </p:sp>
      <p:sp>
        <p:nvSpPr>
          <p:cNvPr id="57"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ewness means lack of symmetr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ndicates whether the curve is turned more to one side than to other, i.e. the curve has a longer tail on one 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positive or nega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curve is more elongated to the right side , i.e. the mean of the distribution is more than the mo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ewness is said to be negative if curve is more elongated to the left side i.e. the mean of the distribution is smaller than mod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rl Pearson’s coefficient of skewness = Mean-Mode/S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efficient of skewness is pure number and it is zero for symmetrical distribu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Kurtosis</a:t>
            </a:r>
            <a:endParaRPr b="0" lang="en-US" sz="4400" spc="-1" strike="noStrike">
              <a:solidFill>
                <a:srgbClr val="000000"/>
              </a:solidFill>
              <a:latin typeface="Calibri"/>
            </a:endParaRPr>
          </a:p>
        </p:txBody>
      </p:sp>
      <p:sp>
        <p:nvSpPr>
          <p:cNvPr id="59"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lative flatness or peakedness of the frequency cur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ula, ß</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2</a:t>
            </a:r>
            <a:r>
              <a:rPr b="0" lang="en-US" sz="2400" spc="-1" strike="noStrike" baseline="30000">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4= </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4 </a:t>
            </a:r>
            <a:r>
              <a:rPr b="0" lang="en-US" sz="2400" spc="-1" strike="noStrike">
                <a:solidFill>
                  <a:srgbClr val="000000"/>
                </a:solidFill>
                <a:latin typeface="Times New Roman"/>
                <a:ea typeface="Times New Roman"/>
              </a:rPr>
              <a:t> in case of frequency distributi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n ∑</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4  </a:t>
            </a:r>
            <a:r>
              <a:rPr b="0" lang="en-US" sz="2400" spc="-1" strike="noStrike">
                <a:solidFill>
                  <a:srgbClr val="000000"/>
                </a:solidFill>
                <a:latin typeface="Times New Roman"/>
                <a:ea typeface="Times New Roman"/>
              </a:rPr>
              <a:t>in case of individual values</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2= </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 </a:t>
            </a:r>
            <a:r>
              <a:rPr b="0" lang="en-US" sz="2400" spc="-1" strike="noStrike">
                <a:solidFill>
                  <a:srgbClr val="000000"/>
                </a:solidFill>
                <a:latin typeface="Times New Roman"/>
                <a:ea typeface="Times New Roman"/>
              </a:rPr>
              <a:t>in case of frequency distributi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n ∑</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 </a:t>
            </a:r>
            <a:r>
              <a:rPr b="0" lang="en-US" sz="2400" spc="-1" strike="noStrike">
                <a:solidFill>
                  <a:srgbClr val="000000"/>
                </a:solidFill>
                <a:latin typeface="Times New Roman"/>
                <a:ea typeface="Times New Roman"/>
              </a:rPr>
              <a:t>in case of individual values</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bability </a:t>
            </a:r>
            <a:endParaRPr b="0" lang="en-US" sz="3600" spc="-1" strike="noStrike">
              <a:solidFill>
                <a:srgbClr val="000000"/>
              </a:solidFill>
              <a:latin typeface="Calibri"/>
            </a:endParaRPr>
          </a:p>
        </p:txBody>
      </p:sp>
      <p:sp>
        <p:nvSpPr>
          <p:cNvPr id="61"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the chance factor for an event to occur or not to occu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is a mathematical quant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presented a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 P(A)=A/N=No. of  favorable events/ No. of total ev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probability of an event happening is p and not happening is denoted by q, then q=1-p OR p+q=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is usually denoted by “P”. Also, probability of event A is denoted by P(A), so probability of non occurrence of A is denoted by Q(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A)=no of non favorable events/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tal  no of events-no of favorable events/total no of ev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2204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ddition Rule: Law of Additivity</a:t>
            </a:r>
            <a:endParaRPr b="0" lang="en-US" sz="3600" spc="-1" strike="noStrike">
              <a:solidFill>
                <a:srgbClr val="000000"/>
              </a:solidFill>
              <a:latin typeface="Calibri"/>
            </a:endParaRPr>
          </a:p>
        </p:txBody>
      </p:sp>
      <p:sp>
        <p:nvSpPr>
          <p:cNvPr id="63" name=""/>
          <p:cNvSpPr txBox="1"/>
          <p:nvPr/>
        </p:nvSpPr>
        <p:spPr>
          <a:xfrm>
            <a:off x="228600" y="762120"/>
            <a:ext cx="868680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tion rule applies to a situation where we want probability for ‘one of this OR one of th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urning up a one or two on  a dice gives probability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 or B)= P(A U B)= P(A) + P(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6 +1/6= 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re events are mutually exclusiv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When events are not mutually exclusive) we have to deduct the overlapping probability (i.e. probability of an ace hear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of an Ace heart P=</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of heart +probability of Ace-Probability of Heart and A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52                       + 4/52                     - 1/52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16/52</a:t>
            </a:r>
            <a:endParaRPr b="0" lang="en-US" sz="2400" spc="-1" strike="noStrike">
              <a:solidFill>
                <a:srgbClr val="000000"/>
              </a:solidFill>
              <a:latin typeface="Calibri"/>
            </a:endParaRPr>
          </a:p>
        </p:txBody>
      </p:sp>
      <p:sp>
        <p:nvSpPr>
          <p:cNvPr id="64" name="Rounded Rectangle 3"/>
          <p:cNvSpPr/>
          <p:nvPr/>
        </p:nvSpPr>
        <p:spPr>
          <a:xfrm>
            <a:off x="5638680" y="2057400"/>
            <a:ext cx="2286000" cy="12193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U called as un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Multiplication Rule</a:t>
            </a:r>
            <a:endParaRPr b="0" lang="en-US" sz="3600" spc="-1" strike="noStrike">
              <a:solidFill>
                <a:srgbClr val="000000"/>
              </a:solidFill>
              <a:latin typeface="Calibri"/>
            </a:endParaRPr>
          </a:p>
        </p:txBody>
      </p:sp>
      <p:sp>
        <p:nvSpPr>
          <p:cNvPr id="66" name=""/>
          <p:cNvSpPr txBox="1"/>
          <p:nvPr/>
        </p:nvSpPr>
        <p:spPr>
          <a:xfrm>
            <a:off x="152280" y="762120"/>
            <a:ext cx="883944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bability that an event will occur jointly is the product of the probabilities of each ev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 and B are independent events, then probability that A and B will occur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B)=P(A∩B)=P(A) P (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bability of head when coin tossed twi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2 * 1/2=1/4 </a:t>
            </a:r>
            <a:r>
              <a:rPr b="1" lang="en-US" sz="2400" spc="-1" strike="noStrike">
                <a:solidFill>
                  <a:srgbClr val="000000"/>
                </a:solidFill>
                <a:latin typeface="Times New Roman"/>
                <a:ea typeface="Times New Roman"/>
              </a:rPr>
              <a:t>(here each toss is independ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out of 10 traffic accidents are fatal, probability of  death by one accident is =3/10=0.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of death by two successive accident is =3/10 * 3/10 =9/100 </a:t>
            </a:r>
            <a:endParaRPr b="0" lang="en-US" sz="2400" spc="-1" strike="noStrike">
              <a:solidFill>
                <a:srgbClr val="000000"/>
              </a:solidFill>
              <a:latin typeface="Calibri"/>
            </a:endParaRPr>
          </a:p>
        </p:txBody>
      </p:sp>
      <p:sp>
        <p:nvSpPr>
          <p:cNvPr id="67" name="Rounded Rectangle 3"/>
          <p:cNvSpPr/>
          <p:nvPr/>
        </p:nvSpPr>
        <p:spPr>
          <a:xfrm>
            <a:off x="5943600" y="2133720"/>
            <a:ext cx="2743200" cy="1143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d = ∩ called as inter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ermutation </a:t>
            </a:r>
            <a:endParaRPr b="0" lang="en-US" sz="3600" spc="-1" strike="noStrike">
              <a:solidFill>
                <a:srgbClr val="000000"/>
              </a:solidFill>
              <a:latin typeface="Calibri"/>
            </a:endParaRPr>
          </a:p>
        </p:txBody>
      </p:sp>
      <p:sp>
        <p:nvSpPr>
          <p:cNvPr id="69" name=""/>
          <p:cNvSpPr txBox="1"/>
          <p:nvPr/>
        </p:nvSpPr>
        <p:spPr>
          <a:xfrm>
            <a:off x="228600" y="914040"/>
            <a:ext cx="8686800" cy="563868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mutation means “order of occurrence”</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two alphabets (a and b)</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arrange as ab or ba</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b,c can be arranged in following orders:</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c,b,</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b</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b,a</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Similarly 1,2,3 can be written as</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3,1</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1,2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2,1</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of these is a different permutation</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ndition probability (Bayes theorem) </a:t>
            </a:r>
            <a:endParaRPr b="0" lang="en-US" sz="3600" spc="-1" strike="noStrike">
              <a:solidFill>
                <a:srgbClr val="000000"/>
              </a:solidFill>
              <a:latin typeface="Calibri"/>
            </a:endParaRPr>
          </a:p>
        </p:txBody>
      </p:sp>
      <p:sp>
        <p:nvSpPr>
          <p:cNvPr id="71" name=""/>
          <p:cNvSpPr txBox="1"/>
          <p:nvPr/>
        </p:nvSpPr>
        <p:spPr>
          <a:xfrm>
            <a:off x="152280" y="685800"/>
            <a:ext cx="883944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robability theory, Bayes' theorem relates the conditional and marginal probabilities of two random events. It is often used to compute posterior probabilities given observatio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tement of Bayes' theor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yes' theorem relates the conditional and marginal probabilities of events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where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has a non-vanishing probabilit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B)=P(B/A) P(A)/P(B)</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prior probability or marginal probability of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t is "prior" in the sense that it does not take into account any information about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s the conditional probability of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t is also called the posterior probability because it is derived from or depends upon the specified value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conditional probability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s the prior or marginal probability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and acts as a normalizing constan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13:07:54Z</dcterms:created>
  <dc:creator>Subodh</dc:creator>
  <dc:description/>
  <dc:language>en-US</dc:language>
  <cp:lastModifiedBy>Subodh</cp:lastModifiedBy>
  <dcterms:modified xsi:type="dcterms:W3CDTF">2009-12-07T09:26:37Z</dcterms:modified>
  <cp:revision>141</cp:revision>
  <dc:subject/>
  <dc:title>Probability Analysis</dc:title>
</cp:coreProperties>
</file>